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828-89E6-4C02-98A4-820D7019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ACB-D58A-41F5-B380-6A2B7A37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3A8-5DF0-4A45-BB48-062727E0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DBB-84E8-470B-B376-CD50589C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30D-2E16-46F1-A477-6D133595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299-A051-4BC0-BD47-3741243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625-0BC8-4A47-800B-5FF5D5E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71F-3A3A-430A-9B79-FAD4CAEF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A49-11AE-4BE4-94C2-46C69A6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C3F-5C30-46C4-BAE1-2687BCA7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1B8-B2A2-4A1C-9C33-2C8190A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6BF-72AE-4E85-AF73-2E83628A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EFF3-0A6E-485E-8D76-63697C2CF1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258840"/>
            <a:ext cx="8562960" cy="6410160"/>
            <a:chOff x="324000" y="258840"/>
            <a:chExt cx="8562960" cy="64101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24000" y="258840"/>
              <a:ext cx="8562960" cy="64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979640" y="5848560"/>
              <a:ext cx="79200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42640" y="609300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ydesdorff&amp;Rafols (Forthcom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5480" y="3573360"/>
            <a:ext cx="1191240" cy="276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5a5a"/>
                </a:solidFill>
                <a:latin typeface="Arial"/>
                <a:ea typeface="ＭＳ Ｐゴシック"/>
              </a:rPr>
              <a:t>Neuro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280" y="4292640"/>
            <a:ext cx="1148400" cy="276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puter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39280" y="404640"/>
            <a:ext cx="988560" cy="276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6920" y="260280"/>
            <a:ext cx="9108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000" y="1557360"/>
            <a:ext cx="72468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6560" y="2708280"/>
            <a:ext cx="11318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iological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1080" y="2276640"/>
            <a:ext cx="866520" cy="276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5080" y="5805360"/>
            <a:ext cx="7066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65280" y="4149720"/>
            <a:ext cx="997560" cy="276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628640"/>
            <a:ext cx="103860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viron.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3500280"/>
            <a:ext cx="10540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3120" y="981000"/>
            <a:ext cx="1482120" cy="276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ect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760" y="1569960"/>
            <a:ext cx="13251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linical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760" y="2205000"/>
            <a:ext cx="1421280" cy="2764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medic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200" y="44280"/>
            <a:ext cx="9101160" cy="6662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3280" y="6143760"/>
            <a:ext cx="48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notech-related publications in the map of science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from Alan Porter at 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8200" y="4005360"/>
            <a:ext cx="1191240" cy="276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5a5a"/>
                </a:solidFill>
                <a:latin typeface="Arial"/>
                <a:ea typeface="ＭＳ Ｐゴシック"/>
              </a:rPr>
              <a:t>Neuro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000" y="4797360"/>
            <a:ext cx="1148400" cy="276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puter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0560" y="620640"/>
            <a:ext cx="988560" cy="276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280" y="620640"/>
            <a:ext cx="9108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280" y="1268280"/>
            <a:ext cx="72468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6200" y="3068640"/>
            <a:ext cx="11318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iological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080" y="2205000"/>
            <a:ext cx="866520" cy="276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720" y="5373720"/>
            <a:ext cx="7066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38200" y="2924280"/>
            <a:ext cx="997560" cy="276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1341360"/>
            <a:ext cx="103860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viron.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360" y="4005360"/>
            <a:ext cx="109656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3120" y="981000"/>
            <a:ext cx="1482120" cy="276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ect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3840" y="3284640"/>
            <a:ext cx="13251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linical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760" y="2205000"/>
            <a:ext cx="1421280" cy="2764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medic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4:08:03Z</dcterms:created>
  <dc:creator>staff</dc:creator>
  <dc:description/>
  <dc:language>en-US</dc:language>
  <cp:lastModifiedBy>Ir28</cp:lastModifiedBy>
  <dcterms:modified xsi:type="dcterms:W3CDTF">2008-06-06T16:32:59Z</dcterms:modified>
  <cp:revision>29</cp:revision>
  <dc:subject/>
  <dc:title>Slide 1</dc:title>
</cp:coreProperties>
</file>