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F489-E824-48F9-8A99-089D6F261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3660-B2D3-4908-9558-85A299A1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935B-3D15-4216-B900-0AE0DEE53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6A2A-B5F1-42B7-B9F8-23BCD96C8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12F2-849C-4672-8C3F-9DED1E49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3836-5295-47E1-875C-11D133B2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8C92-250A-437C-8E04-7CF14483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FB79-7F92-4A3D-8E0C-CA96CB28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579D-87B6-4302-8DD4-F376866F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3C8A-367C-453B-94D3-B6C2ADFF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40FA-A9C2-4153-833A-05E47ACF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74D8-6757-4167-838A-533C8BAA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C840-AB64-4CD3-8192-ED9117C5E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77752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verlay Maps of Sc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4436640"/>
            <a:ext cx="77770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mael Rafol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1,2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lan Porte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d Loet Leydesdorf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RU, University of Sussex, Brigh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ool of Public Policy, Georgia Institute Technology, Atla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sterdam School of Comm. Res. (ASCoR), Univ. Amsterda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1160" y="187200"/>
            <a:ext cx="247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lobal Map of Science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5 SCI Subject 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08000" y="663480"/>
            <a:ext cx="8785080" cy="6000840"/>
            <a:chOff x="108000" y="663480"/>
            <a:chExt cx="8785080" cy="600084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108000" y="663480"/>
              <a:ext cx="8785080" cy="60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6588000" y="6381720"/>
              <a:ext cx="188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eydesdorff and Rafols (2009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Text Box 2"/>
          <p:cNvSpPr/>
          <p:nvPr/>
        </p:nvSpPr>
        <p:spPr>
          <a:xfrm>
            <a:off x="1836720" y="4724280"/>
            <a:ext cx="1086120" cy="276480"/>
          </a:xfrm>
          <a:prstGeom prst="rect">
            <a:avLst/>
          </a:prstGeom>
          <a:solidFill>
            <a:srgbClr val="ffb5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urosc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3527280" y="663480"/>
            <a:ext cx="935280" cy="276480"/>
          </a:xfrm>
          <a:prstGeom prst="rect">
            <a:avLst/>
          </a:prstGeom>
          <a:solidFill>
            <a:srgbClr val="007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gri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844720" y="2133720"/>
            <a:ext cx="861840" cy="276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iomed S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464000" y="3255840"/>
            <a:ext cx="934920" cy="276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7814160" y="4724280"/>
            <a:ext cx="627120" cy="276480"/>
          </a:xfrm>
          <a:prstGeom prst="rect">
            <a:avLst/>
          </a:prstGeom>
          <a:solidFill>
            <a:srgbClr val="8c2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7848720" y="3976560"/>
            <a:ext cx="971280" cy="276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6048360" y="2176560"/>
            <a:ext cx="858960" cy="276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Environ S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6912000" y="3255840"/>
            <a:ext cx="79200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Matls S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863640" y="1312920"/>
            <a:ext cx="900000" cy="459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fectious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358920" y="2608200"/>
            <a:ext cx="971280" cy="276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linical 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4356000" y="4869000"/>
            <a:ext cx="1187640" cy="2764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uter S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7775640" y="1168560"/>
            <a:ext cx="1008000" cy="2764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Geosc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5402520" y="447840"/>
            <a:ext cx="656280" cy="2764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Ec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395280" y="5084640"/>
            <a:ext cx="1042920" cy="276480"/>
          </a:xfrm>
          <a:prstGeom prst="rect">
            <a:avLst/>
          </a:prstGeom>
          <a:solidFill>
            <a:srgbClr val="ff78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neral 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01160" y="187200"/>
            <a:ext cx="247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lobal Map of Science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5 SCI Subject 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1836720" y="4724280"/>
            <a:ext cx="1086120" cy="276480"/>
          </a:xfrm>
          <a:prstGeom prst="rect">
            <a:avLst/>
          </a:prstGeom>
          <a:solidFill>
            <a:srgbClr val="ffb5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urosc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527280" y="663480"/>
            <a:ext cx="935280" cy="276480"/>
          </a:xfrm>
          <a:prstGeom prst="rect">
            <a:avLst/>
          </a:prstGeom>
          <a:solidFill>
            <a:srgbClr val="007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gri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844720" y="2133720"/>
            <a:ext cx="861840" cy="276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iomed S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4464000" y="3255840"/>
            <a:ext cx="934920" cy="276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7814160" y="4724280"/>
            <a:ext cx="627120" cy="276480"/>
          </a:xfrm>
          <a:prstGeom prst="rect">
            <a:avLst/>
          </a:prstGeom>
          <a:solidFill>
            <a:srgbClr val="8c2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7848720" y="3976560"/>
            <a:ext cx="971280" cy="276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6048360" y="2176560"/>
            <a:ext cx="858960" cy="276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Environ S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6912000" y="3255840"/>
            <a:ext cx="79200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Matls S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863640" y="1312920"/>
            <a:ext cx="900000" cy="459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fectious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358920" y="2608200"/>
            <a:ext cx="971280" cy="276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linical 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7"/>
          <p:cNvSpPr/>
          <p:nvPr/>
        </p:nvSpPr>
        <p:spPr>
          <a:xfrm>
            <a:off x="4356000" y="4869000"/>
            <a:ext cx="1187640" cy="2764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uter S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7775640" y="1168560"/>
            <a:ext cx="1008000" cy="2764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Geosc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0"/>
          <p:cNvSpPr/>
          <p:nvPr/>
        </p:nvSpPr>
        <p:spPr>
          <a:xfrm>
            <a:off x="5402520" y="447840"/>
            <a:ext cx="656280" cy="2764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Ec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2"/>
          <p:cNvSpPr/>
          <p:nvPr/>
        </p:nvSpPr>
        <p:spPr>
          <a:xfrm>
            <a:off x="395280" y="5084640"/>
            <a:ext cx="1042920" cy="276480"/>
          </a:xfrm>
          <a:prstGeom prst="rect">
            <a:avLst/>
          </a:prstGeom>
          <a:solidFill>
            <a:srgbClr val="ff78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neral 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0" y="360360"/>
            <a:ext cx="9430920" cy="6597360"/>
            <a:chOff x="0" y="360360"/>
            <a:chExt cx="9430920" cy="6597360"/>
          </a:xfrm>
        </p:grpSpPr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0" y="360360"/>
              <a:ext cx="9430920" cy="65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6716160" y="6465600"/>
              <a:ext cx="2105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afols, Porter and Leydesdorff (2009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 Box 2"/>
          <p:cNvSpPr/>
          <p:nvPr/>
        </p:nvSpPr>
        <p:spPr>
          <a:xfrm>
            <a:off x="1948680" y="3384720"/>
            <a:ext cx="860400" cy="246240"/>
          </a:xfrm>
          <a:prstGeom prst="rect">
            <a:avLst/>
          </a:prstGeom>
          <a:solidFill>
            <a:srgbClr val="ffb5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gnitive Sc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924360" y="720720"/>
            <a:ext cx="631800" cy="246240"/>
          </a:xfrm>
          <a:prstGeom prst="rect">
            <a:avLst/>
          </a:prstGeom>
          <a:solidFill>
            <a:srgbClr val="007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gri Sc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3819600" y="2952720"/>
            <a:ext cx="744480" cy="246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iomed Sc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5113440" y="2225520"/>
            <a:ext cx="741240" cy="246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hemis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7669080" y="4465800"/>
            <a:ext cx="551160" cy="246240"/>
          </a:xfrm>
          <a:prstGeom prst="rect">
            <a:avLst/>
          </a:prstGeom>
          <a:solidFill>
            <a:srgbClr val="8c2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Phys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7667640" y="2881440"/>
            <a:ext cx="927000" cy="2462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gine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6457680" y="495360"/>
            <a:ext cx="924480" cy="246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Env Sci &amp; Te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6300720" y="2665440"/>
            <a:ext cx="7048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Matls Sc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2340000" y="1052640"/>
            <a:ext cx="777960" cy="3985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fectious Dise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179280" y="4105440"/>
            <a:ext cx="781200" cy="2462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sych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1547640" y="5373720"/>
            <a:ext cx="93060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cial Stud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1187280" y="2160720"/>
            <a:ext cx="854280" cy="246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linical M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5580000" y="4826160"/>
            <a:ext cx="1041480" cy="2462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uter Sc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3419640" y="4968720"/>
            <a:ext cx="1206360" cy="2462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Business &amp; M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7451640" y="1081080"/>
            <a:ext cx="852480" cy="2462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Geosc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5292720" y="620640"/>
            <a:ext cx="565200" cy="24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Ecol Sc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5580000" y="5834160"/>
            <a:ext cx="1560600" cy="246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con. Polit. &amp; 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2"/>
          <p:cNvSpPr/>
          <p:nvPr/>
        </p:nvSpPr>
        <p:spPr>
          <a:xfrm>
            <a:off x="3276720" y="4033800"/>
            <a:ext cx="1371600" cy="246240"/>
          </a:xfrm>
          <a:prstGeom prst="rect">
            <a:avLst/>
          </a:prstGeom>
          <a:solidFill>
            <a:srgbClr val="ff78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ealth &amp; Social Iss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8600" y="0"/>
            <a:ext cx="285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lobal Map of Science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1 SCI-SSCI Subject 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983600" y="3500280"/>
            <a:ext cx="860400" cy="246240"/>
          </a:xfrm>
          <a:prstGeom prst="rect">
            <a:avLst/>
          </a:prstGeom>
          <a:solidFill>
            <a:srgbClr val="ffb5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gnitive Sc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959280" y="836640"/>
            <a:ext cx="612720" cy="246240"/>
          </a:xfrm>
          <a:prstGeom prst="rect">
            <a:avLst/>
          </a:prstGeom>
          <a:solidFill>
            <a:srgbClr val="007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gri Sc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854520" y="3068640"/>
            <a:ext cx="744480" cy="246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iomed Sc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148360" y="2341440"/>
            <a:ext cx="718920" cy="246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hemis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7704000" y="4581360"/>
            <a:ext cx="551160" cy="246240"/>
          </a:xfrm>
          <a:prstGeom prst="rect">
            <a:avLst/>
          </a:prstGeom>
          <a:solidFill>
            <a:srgbClr val="8c2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Phys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7702560" y="2997360"/>
            <a:ext cx="898560" cy="2462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gine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6492600" y="611280"/>
            <a:ext cx="924480" cy="246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Env Sci &amp; Te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6335640" y="2781360"/>
            <a:ext cx="68256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Matls Sc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2374920" y="1052640"/>
            <a:ext cx="754200" cy="3985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fectious Dise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214200" y="4221000"/>
            <a:ext cx="757440" cy="2462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sych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1293840" y="5445000"/>
            <a:ext cx="90180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cial Stud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1222200" y="2276640"/>
            <a:ext cx="828720" cy="246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linical M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5614920" y="4941720"/>
            <a:ext cx="1009800" cy="2462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uter Sc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3454560" y="5084640"/>
            <a:ext cx="1170000" cy="2462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Business &amp; M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9"/>
          <p:cNvSpPr/>
          <p:nvPr/>
        </p:nvSpPr>
        <p:spPr>
          <a:xfrm>
            <a:off x="7486560" y="1197000"/>
            <a:ext cx="827280" cy="2462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Geosc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5365800" y="1046160"/>
            <a:ext cx="561600" cy="24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Ecol Sc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5614920" y="5950080"/>
            <a:ext cx="1513080" cy="246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con. Polit. &amp; 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2"/>
          <p:cNvSpPr/>
          <p:nvPr/>
        </p:nvSpPr>
        <p:spPr>
          <a:xfrm>
            <a:off x="3311640" y="4149720"/>
            <a:ext cx="1330200" cy="246240"/>
          </a:xfrm>
          <a:prstGeom prst="rect">
            <a:avLst/>
          </a:prstGeom>
          <a:solidFill>
            <a:srgbClr val="ff78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ealth &amp; Social Iss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5000" y="384120"/>
            <a:ext cx="329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lobal Map of Science, SCI-SSCI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ydesdorff, L. and Rafols, I. (2009) A Global Map of Science Based on the ISI Subject Categories. Journal of the American Society for Information Science and Technology, 60(2), 348-36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fols, I. and Leydesdorff, L. (2009). Content-based and Algorithmic Classifications of Journals: Perspectives on the Dynamics of Scientific Communication and Indexer Effects. Journal of the American Society for Information Science and Technology. DOI: 10.1002/asi.21086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Over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fols, I., Porter, A. L. and Leydesdorff, L. (in preparation) Overlay science maps: a new tool for research evalu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fols, I. and Meyer, M. (2009) Diversity and Network Coherence as indicators of interdisciplinarity: case studies in bionanoscience.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cientometric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DOI 10.1007/s11192-009-0041-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08:12:24Z</dcterms:created>
  <dc:creator>Ismael Rafols</dc:creator>
  <dc:description/>
  <dc:language>en-US</dc:language>
  <cp:lastModifiedBy>Ismael Rafols</cp:lastModifiedBy>
  <dcterms:modified xsi:type="dcterms:W3CDTF">2009-11-06T08:48:53Z</dcterms:modified>
  <cp:revision>7</cp:revision>
  <dc:subject/>
  <dc:title>Overlay Maps of Science</dc:title>
</cp:coreProperties>
</file>